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sting.wav" ContentType="audio/x-wav"/>
  <Override PartName="/ppt/media/drumroll.wav" ContentType="audio/x-wav"/>
  <Override PartName="/ppt/media/09.%20Who%20Correct.wav" ContentType="audio/x-wav"/>
  <Override PartName="/ppt/media/Tarda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DFD-9B29-456A-A48B-E40CE0A9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977-68A6-44DC-9BBD-11C05BA4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3AF-FC80-480D-B7B9-FA006550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2CD-20E5-4131-8DC6-D329DCC2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38AE-CDA4-4D67-A8E8-73E52973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D17E-9C81-4945-B320-D5F9B6BA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CCC8-40F7-4FC3-9E1E-C4D6A972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745E-350E-4D49-B17D-DE078D6D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C424-3DB1-4470-B3F3-A63AFD17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E5C7-76C7-4FC4-84AE-939CB3F6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311B-0679-4E0C-A64D-3DE80FC6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663-BA09-4F1B-9B5F-62DE397A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D07C-D0D1-4A0C-AF73-3DC3323E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76B4-CD18-4585-9D3B-ED52DE82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526C-2951-4737-A709-1C76F24A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4FA6-2F90-4AC3-BD6E-FDF5491B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BD78-EF9B-4203-8566-1EDAEA3C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F3F1-D6DB-4AC9-A5B8-10F6A319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44D10-F85E-436F-8CAB-3A3FF226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36893-3210-4034-85AE-B8A56ECD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9332-BCBD-42F4-870E-51CA3682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D2D9-1F75-42D4-BC46-D0947DB9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6EB-02B7-4C29-B510-72802BD6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3969-BD7B-4D1C-80C0-2C8D6670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13B1-EC46-4588-81F8-8AE390B8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EB2B-723B-4AFF-81CE-47FEB94C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E44E-2E92-440C-A583-DD2CECBC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A23A4-CCC5-4B55-AD64-059A670F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85AA-5EA3-41F6-8F60-A804FBA1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6896-143D-415F-A469-402EE947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E4EA-D6F0-4F1F-8D2D-CD3714F2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16C4F-3CBC-4190-951A-AFC17B2F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99F0D-54BA-4F6E-8237-AD89C814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6A3-7F8C-4BA6-B6BE-31F39C8B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95DA9-F24B-4F05-8889-F7488751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56A0D-3B28-4BC4-8555-A1E3475F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827F0-E98B-443E-8161-34466C68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BA5C9-7FAD-4717-90FC-D68F38E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8B0EB-B59A-4DC0-9F04-7F1ED484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5918-1BB0-4D35-A0F5-B8943D11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35B8E-F3F7-4CE7-B9AE-69865148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26211-0308-4CD7-9886-EEA86F98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44848-41B0-4709-BF56-E16DCE4A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9B5F5-9413-4FE3-8F92-0B303B12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36B-827F-4382-BF6B-D6AF66EB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C4608-4B11-40CB-939B-EB58AC4B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36198-CF50-4312-A816-16B3E098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6D915-A507-445F-B0DB-F161B009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453E1-30BB-468C-BC5A-65357B5A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6C445-C241-4846-8F90-40736BE1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881B9-4D9F-4DC2-9F59-2325448C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F41AE-9FA9-4022-98C0-1DC25998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67730-EA8B-47BF-A033-11F4F998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0E0F5-25C1-4283-B697-113C96D7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679AE-5184-4530-A5DA-9BF222AC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C80-E562-402E-BAA8-02709067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256A0-4988-494A-832F-4A53E8AA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6A2-D5CA-4B1B-AF48-599DE5CE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497-764A-4015-ADF5-E3A24601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D47-8A71-41FB-AB82-000BF831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D609-8F16-471E-8120-76894BC6B9E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497A-E1ED-4E2D-93C7-114C9365F24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824E-AC4B-4A1A-8F16-290DDCEBBE6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9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A199-9CD3-4FE0-A6D3-345C0E9E313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6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7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3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5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7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7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8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D102-02B5-44F8-B2DE-07DA4F7A3CC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audio" Target="../media/sting.wav"/><Relationship Id="rId8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hyperlink" Target="file:///tmp/home/.config/libreoffice/4/user/gallery/push.wav" TargetMode="External"/><Relationship Id="rId5" Type="http://schemas.openxmlformats.org/officeDocument/2006/relationships/image" Target="../media/image2.wmf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hyperlink" Target="file:///tmp/home/.config/libreoffice/4/user/gallery/push.wav" TargetMode="External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slide" Target="slide51.xm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hyperlink" Target="file:///tmp/home/.config/libreoffice/4/user/gallery/push.wav" TargetMode="External"/><Relationship Id="rId5" Type="http://schemas.openxmlformats.org/officeDocument/2006/relationships/image" Target="../media/image2.wmf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slide" Target="slide51.xm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hyperlink" Target="file:///tmp/home/.config/libreoffice/4/user/gallery/push.wav" TargetMode="External"/><Relationship Id="rId5" Type="http://schemas.openxmlformats.org/officeDocument/2006/relationships/image" Target="../media/image2.wmf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slide" Target="slide51.xm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hyperlink" Target="file:///tmp/home/.config/libreoffice/4/user/gallery/push.wav" TargetMode="External"/><Relationship Id="rId5" Type="http://schemas.openxmlformats.org/officeDocument/2006/relationships/image" Target="../media/image2.wmf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wmf"/><Relationship Id="rId3" Type="http://schemas.openxmlformats.org/officeDocument/2006/relationships/audio" Target="../media/Tarda.wav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hyperlink" Target="file:///tmp/home/.config/libreoffice/4/user/gallery/push.wav" TargetMode="External"/><Relationship Id="rId5" Type="http://schemas.openxmlformats.org/officeDocument/2006/relationships/image" Target="../media/image2.wmf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shreg.wav"/><Relationship Id="rId6" Type="http://schemas.openxmlformats.org/officeDocument/2006/relationships/audio" Target="../media/Tarda.wav"/><Relationship Id="rId7" Type="http://schemas.openxmlformats.org/officeDocument/2006/relationships/audio" Target="../media/sting.wav"/><Relationship Id="rId8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332320" cy="39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2"/>
            <a:srcRect l="0" t="0" r="0" b="26912"/>
            <a:stretch/>
          </p:blipFill>
          <p:spPr>
            <a:xfrm>
              <a:off x="0" y="3962520"/>
              <a:ext cx="53323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3"/>
            <a:srcRect l="0" t="0" r="27039" b="0"/>
            <a:stretch/>
          </p:blipFill>
          <p:spPr>
            <a:xfrm>
              <a:off x="5315040" y="0"/>
              <a:ext cx="3828960" cy="39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4"/>
            <a:srcRect l="0" t="0" r="27039" b="26902"/>
            <a:stretch/>
          </p:blipFill>
          <p:spPr>
            <a:xfrm>
              <a:off x="5315040" y="3962520"/>
              <a:ext cx="3828960" cy="28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"/>
          <p:cNvSpPr txBox="1"/>
          <p:nvPr/>
        </p:nvSpPr>
        <p:spPr>
          <a:xfrm>
            <a:off x="641520" y="739800"/>
            <a:ext cx="783900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avie"/>
              </a:rPr>
              <a:t>Who Wants To Be A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Ravie"/>
              <a:ea typeface="Ravi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avie"/>
              </a:rPr>
              <a:t> </a:t>
            </a: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avie"/>
              </a:rPr>
              <a:t>Millionaire?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Ravie"/>
              <a:ea typeface="Ravie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627280" y="5079960"/>
            <a:ext cx="40482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avie"/>
              </a:rPr>
              <a:t>Fire of London </a:t>
            </a:r>
            <a:endParaRPr b="1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Ravie"/>
              <a:ea typeface="Ravi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avie"/>
              </a:rPr>
              <a:t>Edition</a:t>
            </a:r>
            <a:endParaRPr b="1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Ravie"/>
              <a:ea typeface="Ravie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5"/>
          <a:stretch/>
        </p:blipFill>
        <p:spPr>
          <a:xfrm>
            <a:off x="250920" y="4508640"/>
            <a:ext cx="1859040" cy="20890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6"/>
          <a:stretch/>
        </p:blipFill>
        <p:spPr>
          <a:xfrm>
            <a:off x="7454880" y="5479920"/>
            <a:ext cx="1438200" cy="118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7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7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20" dur="250" autoRev="1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50" autoRev="1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32" dur="250" autoRev="1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3" dur="250" autoRev="1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3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did the fire star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By burning w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With a cigar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By playing with f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Left the cooker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>
            <a:hlinkClick r:id="rId1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>
            <a:hlinkClick r:id="rId2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>
            <a:hlinkClick r:id="rId3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4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9640" y="57340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did the fire star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By burning w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With a cigar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By playing with f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Left the cooker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4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long did the fire burn fo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3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5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7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9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nextslide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>
            <a:hlinkClick r:id="rId1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>
            <a:hlinkClick r:id="rId2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>
            <a:hlinkClick r:id="rId3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4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9640" y="37432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long did the fire burn fo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3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5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7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9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1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5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>
            <a:hlinkClick r:id="rId1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y did the fire sprea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Houses were sm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Houses were made of bri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300" spc="-1" strike="noStrike">
                <a:solidFill>
                  <a:srgbClr val="ffffff"/>
                </a:solidFill>
                <a:latin typeface="Maiandra GD"/>
              </a:rPr>
              <a:t>Houses were made of wo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Houses were made of 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>
            <a:hlinkClick r:id="rId2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rId3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4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1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y did the fire sprea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Houses were sm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Houses were made of bri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300" spc="-1" strike="noStrike">
                <a:solidFill>
                  <a:srgbClr val="ffffff"/>
                </a:solidFill>
                <a:latin typeface="Maiandra GD"/>
              </a:rPr>
              <a:t>Houses were made of wo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Houses were made of 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6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y did the fire stop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The wind died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All the houses were bur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The water put out the</a:t>
            </a:r>
            <a:r>
              <a:rPr b="0" lang="en-US" sz="4800" spc="-1" strike="noStrike">
                <a:solidFill>
                  <a:srgbClr val="ffffff"/>
                </a:solidFill>
                <a:latin typeface="Maiandra GD"/>
              </a:rPr>
              <a:t> fi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The rain put out the 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>
            <a:hlinkClick r:id="rId2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>
            <a:hlinkClick r:id="rId3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>
            <a:hlinkClick r:id="rId4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09.%20Who%20Correct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9640" y="27352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y did the fire stop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The wind died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All the houses were bur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The water put out the</a:t>
            </a:r>
            <a:r>
              <a:rPr b="0" lang="en-US" sz="4800" spc="-1" strike="noStrike">
                <a:solidFill>
                  <a:srgbClr val="ffffff"/>
                </a:solidFill>
                <a:latin typeface="Maiandra GD"/>
              </a:rPr>
              <a:t> fi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The rain put out the 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7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en the fire started people escaped to th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Fo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F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Chur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h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>
            <a:hlinkClick r:id="rId2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>
            <a:hlinkClick r:id="rId3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>
            <a:hlinkClick r:id="rId4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en the fire started people escaped to th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Fo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F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Chur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h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8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en was the Great Fire of Lond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6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5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16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7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>
            <a:hlinkClick r:id="rId1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>
            <a:hlinkClick r:id="rId2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rId3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4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8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>
            <a:hlinkClick r:id="rId1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People escaped to the churches becaus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766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200" spc="-1" strike="noStrike">
                <a:solidFill>
                  <a:srgbClr val="ffffff"/>
                </a:solidFill>
                <a:latin typeface="Maiandra GD"/>
              </a:rPr>
              <a:t>it was very ho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200" spc="-1" strike="noStrike">
                <a:solidFill>
                  <a:srgbClr val="ffffff"/>
                </a:solidFill>
                <a:latin typeface="Maiandra GD"/>
              </a:rPr>
              <a:t>it was raining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Maiandra GD"/>
              </a:rPr>
              <a:t>churches were made of stone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100" spc="-1" strike="noStrike">
                <a:solidFill>
                  <a:srgbClr val="ffffff"/>
                </a:solidFill>
                <a:latin typeface="Maiandra GD"/>
              </a:rPr>
              <a:t>churches were made of wood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>
            <a:hlinkClick r:id="rId3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>
            <a:hlinkClick r:id="rId4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5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09.%20Who%20Correct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People escaped to the churches becaus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766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200" spc="-1" strike="noStrike">
                <a:solidFill>
                  <a:srgbClr val="ffffff"/>
                </a:solidFill>
                <a:latin typeface="Maiandra GD"/>
              </a:rPr>
              <a:t>it was very ho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200" spc="-1" strike="noStrike">
                <a:solidFill>
                  <a:srgbClr val="ffffff"/>
                </a:solidFill>
                <a:latin typeface="Maiandra GD"/>
              </a:rPr>
              <a:t>it was raining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Maiandra GD"/>
              </a:rPr>
              <a:t>churches were made of stone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100" spc="-1" strike="noStrike">
                <a:solidFill>
                  <a:srgbClr val="ffffff"/>
                </a:solidFill>
                <a:latin typeface="Maiandra GD"/>
              </a:rPr>
              <a:t>churches were made of wood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16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9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>
            <a:hlinkClick r:id="rId1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many people died in the fi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>
            <a:hlinkClick r:id="rId3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>
            <a:hlinkClick r:id="rId4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5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09.%20Who%20Correct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9640" y="27352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many people died in the fi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3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10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>
            <a:hlinkClick r:id="rId1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Maiandra GD"/>
              </a:rPr>
              <a:t>After the fire what did people decide to rebuild their houses wi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W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Bricks and 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St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>
            <a:hlinkClick r:id="" action="ppaction://hlinkshowjump?jump=nextslide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>
            <a:hlinkClick r:id="rId3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>
            <a:hlinkClick r:id="rId4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4" name="" descr=""/>
          <p:cNvPicPr/>
          <p:nvPr/>
        </p:nvPicPr>
        <p:blipFill>
          <a:blip r:embed="rId5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09.%20Who%20Correct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>
            <a:hlinkClick r:id="rId1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en was the Great Fire of Lond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6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5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16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7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Maiandra GD"/>
              </a:rPr>
              <a:t>After the fire what did people decide to rebuild their houses wi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W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Bricks and 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St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6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11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do we know about the fi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766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Maiandra GD"/>
              </a:rPr>
              <a:t>People saw it in a mov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Maiandra GD"/>
              </a:rPr>
              <a:t>People saw it in their drea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Maiandra GD"/>
              </a:rPr>
              <a:t>People saw it in a cart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Maiandra GD"/>
              </a:rPr>
              <a:t>People saw it &amp; wrote abou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>
            <a:hlinkClick r:id="rId2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>
            <a:hlinkClick r:id="rId3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>
            <a:hlinkClick r:id="rId4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5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09.%20Who%20Correct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33520" y="57340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do we know about the fi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766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Maiandra GD"/>
              </a:rPr>
              <a:t>People saw it in a mov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Maiandra GD"/>
              </a:rPr>
              <a:t>People saw it in their drea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Maiandra GD"/>
              </a:rPr>
              <a:t>People saw it in a cart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Maiandra GD"/>
              </a:rPr>
              <a:t>People saw it &amp; wrote abou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1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125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4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12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o was Samuel Pepy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i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Eyewi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hop kee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>
            <a:hlinkClick r:id="rId1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>
            <a:hlinkClick r:id="rId2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>
            <a:hlinkClick r:id="rId3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4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o was Samuel Pepy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i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Eyewi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hop kee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25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13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at did Samuel Pepys writ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Di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>
            <a:hlinkClick r:id="rId1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>
            <a:hlinkClick r:id="rId2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>
            <a:hlinkClick r:id="rId3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" descr=""/>
          <p:cNvPicPr/>
          <p:nvPr/>
        </p:nvPicPr>
        <p:blipFill>
          <a:blip r:embed="rId4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39640" y="27352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at did Samuel Pepys writ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Di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5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332320" cy="39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2"/>
            <a:srcRect l="0" t="0" r="0" b="26912"/>
            <a:stretch/>
          </p:blipFill>
          <p:spPr>
            <a:xfrm>
              <a:off x="0" y="3962520"/>
              <a:ext cx="53323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" descr=""/>
            <p:cNvPicPr/>
            <p:nvPr/>
          </p:nvPicPr>
          <p:blipFill>
            <a:blip r:embed="rId3"/>
            <a:srcRect l="0" t="0" r="27039" b="0"/>
            <a:stretch/>
          </p:blipFill>
          <p:spPr>
            <a:xfrm>
              <a:off x="5315040" y="0"/>
              <a:ext cx="3828960" cy="39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4"/>
            <a:srcRect l="0" t="0" r="27039" b="26902"/>
            <a:stretch/>
          </p:blipFill>
          <p:spPr>
            <a:xfrm>
              <a:off x="5315040" y="3962520"/>
              <a:ext cx="3828960" cy="28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1,000,000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ar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2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ing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80" dur="2000" fill="hold"/>
                                        <p:tgtEl>
                                          <p:spTgt spid="1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2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ere did the fire star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In a book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In a clothes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In a sweet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In a bakers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rId1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>
            <a:hlinkClick r:id="rId2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rId3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9640" y="57340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ere did the fire star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In a book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In a clothes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In a sweet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In a bakers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Ineson</cp:lastModifiedBy>
  <dcterms:modified xsi:type="dcterms:W3CDTF">2011-06-19T08:36:53Z</dcterms:modified>
  <cp:revision>46</cp:revision>
  <dc:subject/>
  <dc:title>Who Wants To Be A Millionaire?  </dc:title>
</cp:coreProperties>
</file>